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051-7920-420D-A80F-1C5F0A05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21F-B63B-4C3F-BBAA-189E0E4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7BD-59B1-4692-B3E1-D37F04C7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CF2-5C28-49FF-8946-980F3DDD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598-6D5B-4FC3-AAF1-41C5F9C6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35A-9A78-4541-9E9C-2F4CE3BD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0BE-DE59-4C36-939D-2367CB48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D5C-0E52-4492-BDB5-FCE12D95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A05-BF2B-41C6-A635-12FA604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019-0530-4483-9447-594582E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333-2C5F-41C1-BBEF-17B9347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047-3896-4356-B022-42991B9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D811-2E18-4D89-BB00-9D49E40E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a ti piac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4800600"/>
            <a:ext cx="1600200" cy="160020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1295280"/>
            <a:ext cx="1523880" cy="152424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3716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sa ti pi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 piace la  torta di cioccol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54864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sa non ti pi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n mi piace il formagg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38680" y="2514600"/>
          <a:ext cx="146700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14600"/>
                    <a:ext cx="14670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362320" y="3886200"/>
          <a:ext cx="130320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886200"/>
                    <a:ext cx="130320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a ti piac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4800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dicate what you like using the words in the colum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 piac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0120" y="1219320"/>
          <a:ext cx="8492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219320"/>
                    <a:ext cx="849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696080" y="2590920"/>
          <a:ext cx="80172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590920"/>
                    <a:ext cx="801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467480" y="4191120"/>
          <a:ext cx="97164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4191120"/>
                    <a:ext cx="9716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391520" y="5867280"/>
          <a:ext cx="133812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91520" y="5867280"/>
                    <a:ext cx="13381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876920" y="1143000"/>
            <a:ext cx="2438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l bisc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a limo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l gel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’ar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419720" y="1143000"/>
          <a:ext cx="99036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143000"/>
                    <a:ext cx="990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43400" y="2362320"/>
          <a:ext cx="102384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362320"/>
                    <a:ext cx="10238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495680" y="3733920"/>
          <a:ext cx="7765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733920"/>
                    <a:ext cx="7765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343400" y="4876920"/>
          <a:ext cx="115416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876920"/>
                    <a:ext cx="11541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175248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a scuo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cavall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a trotto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’aquil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19720" y="1143000"/>
          <a:ext cx="99036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143000"/>
                    <a:ext cx="990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343400" y="2362320"/>
          <a:ext cx="102384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362320"/>
                    <a:ext cx="10238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495680" y="3733920"/>
          <a:ext cx="7765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733920"/>
                    <a:ext cx="7765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43400" y="4876920"/>
          <a:ext cx="115416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876920"/>
                    <a:ext cx="11541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352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95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2057400"/>
            <a:ext cx="12952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, mi pi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, non mi pi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15238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6765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serp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tempor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most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a puntu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96080" y="1295280"/>
          <a:ext cx="112248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295280"/>
                    <a:ext cx="11224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267080" y="2438280"/>
          <a:ext cx="99072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438280"/>
                    <a:ext cx="9907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543800" y="3581280"/>
          <a:ext cx="6843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3581280"/>
                    <a:ext cx="6843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62520" y="5029200"/>
          <a:ext cx="126684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5029200"/>
                    <a:ext cx="12668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96080" y="1295280"/>
          <a:ext cx="112248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295280"/>
                    <a:ext cx="11224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438280"/>
          <a:ext cx="99072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438280"/>
                    <a:ext cx="9907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96080" y="3962520"/>
          <a:ext cx="68436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3962520"/>
                    <a:ext cx="6843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962520" y="5029200"/>
          <a:ext cx="126684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5029200"/>
                    <a:ext cx="12668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257800" y="1905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276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5943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2520" y="2057400"/>
            <a:ext cx="3276360" cy="3124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04920"/>
            <a:ext cx="1066680" cy="990360"/>
          </a:xfrm>
          <a:prstGeom prst="smileyFace">
            <a:avLst>
              <a:gd name="adj" fmla="val -46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5715000"/>
            <a:ext cx="990720" cy="91440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2860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0" y="5638680"/>
            <a:ext cx="1066680" cy="990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91120" y="304920"/>
          <a:ext cx="847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04920"/>
                    <a:ext cx="84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248520" y="228600"/>
          <a:ext cx="9745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974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772400" y="1676520"/>
          <a:ext cx="1060560" cy="106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1676520"/>
                    <a:ext cx="106056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924680" y="3886200"/>
          <a:ext cx="8240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4680" y="3886200"/>
                    <a:ext cx="824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33720" y="1828800"/>
          <a:ext cx="1066680" cy="91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1828800"/>
                    <a:ext cx="1066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133720" y="3733920"/>
          <a:ext cx="1066680" cy="12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3733920"/>
                    <a:ext cx="10666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962520" y="5638680"/>
          <a:ext cx="1141200" cy="96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5638680"/>
                    <a:ext cx="11412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733920" y="1295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5105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bim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 l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 scim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029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pipistr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6095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admin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1371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’elef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5909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5909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2160" y="3551400"/>
            <a:ext cx="2230560" cy="1025280"/>
          </a:xfrm>
          <a:custGeom>
            <a:avLst/>
            <a:gdLst/>
            <a:ahLst/>
            <a:rect l="l" t="t" r="r" b="b"/>
            <a:pathLst>
              <a:path w="1405" h="646">
                <a:moveTo>
                  <a:pt x="0" y="0"/>
                </a:moveTo>
                <a:cubicBezTo>
                  <a:pt x="8" y="65"/>
                  <a:pt x="2" y="138"/>
                  <a:pt x="39" y="194"/>
                </a:cubicBezTo>
                <a:cubicBezTo>
                  <a:pt x="56" y="262"/>
                  <a:pt x="94" y="316"/>
                  <a:pt x="133" y="374"/>
                </a:cubicBezTo>
                <a:cubicBezTo>
                  <a:pt x="147" y="396"/>
                  <a:pt x="166" y="414"/>
                  <a:pt x="180" y="436"/>
                </a:cubicBezTo>
                <a:cubicBezTo>
                  <a:pt x="185" y="444"/>
                  <a:pt x="187" y="454"/>
                  <a:pt x="195" y="459"/>
                </a:cubicBezTo>
                <a:cubicBezTo>
                  <a:pt x="204" y="465"/>
                  <a:pt x="216" y="464"/>
                  <a:pt x="226" y="467"/>
                </a:cubicBezTo>
                <a:cubicBezTo>
                  <a:pt x="289" y="514"/>
                  <a:pt x="361" y="549"/>
                  <a:pt x="437" y="569"/>
                </a:cubicBezTo>
                <a:cubicBezTo>
                  <a:pt x="518" y="622"/>
                  <a:pt x="633" y="625"/>
                  <a:pt x="725" y="646"/>
                </a:cubicBezTo>
                <a:cubicBezTo>
                  <a:pt x="824" y="644"/>
                  <a:pt x="922" y="643"/>
                  <a:pt x="1021" y="639"/>
                </a:cubicBezTo>
                <a:cubicBezTo>
                  <a:pt x="1056" y="637"/>
                  <a:pt x="1123" y="615"/>
                  <a:pt x="1123" y="615"/>
                </a:cubicBezTo>
                <a:cubicBezTo>
                  <a:pt x="1157" y="593"/>
                  <a:pt x="1196" y="566"/>
                  <a:pt x="1224" y="537"/>
                </a:cubicBezTo>
                <a:cubicBezTo>
                  <a:pt x="1276" y="483"/>
                  <a:pt x="1301" y="398"/>
                  <a:pt x="1356" y="343"/>
                </a:cubicBezTo>
                <a:cubicBezTo>
                  <a:pt x="1368" y="306"/>
                  <a:pt x="1402" y="274"/>
                  <a:pt x="1403" y="233"/>
                </a:cubicBezTo>
                <a:cubicBezTo>
                  <a:pt x="1405" y="158"/>
                  <a:pt x="1403" y="82"/>
                  <a:pt x="1403" y="7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5029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sa ti pia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1:12:26Z</dcterms:created>
  <dc:creator>Preferred Customer</dc:creator>
  <dc:description/>
  <dc:language>en-US</dc:language>
  <cp:lastModifiedBy>VALERIA PALLADINO</cp:lastModifiedBy>
  <cp:lastPrinted>2003-04-26T01:31:04Z</cp:lastPrinted>
  <dcterms:modified xsi:type="dcterms:W3CDTF">2003-10-16T15:18:17Z</dcterms:modified>
  <cp:revision>9</cp:revision>
  <dc:subject/>
  <dc:title>No Slide Title</dc:title>
</cp:coreProperties>
</file>